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98DD-ADD4-497D-BC62-1E7FA297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63D-88FA-4AF0-BE1A-310CAFD4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A16-0291-43DD-8B92-9556ED84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9A0-2350-487C-B838-A156ECE0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4EC-2599-4D41-868E-EBB56C6C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CB79-2A01-4EEF-B061-9DA6DC3D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2C4-46ED-405E-A9B1-0B857FBE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2C09-D3A9-4696-AC61-B04A7CDE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8B6-B6BD-4AD8-A882-8587D327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CBE-AE71-43F1-857B-62FF729A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DCD-9F63-4B31-B46F-31B0C4C6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7D9-9E5F-4FAF-BFD0-C5246C5E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A5B4-17C6-4A40-ABA1-654785B76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05 Česť, pôvod ani slá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esť, pôvod ani sl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veľkosť obe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čokoľvek kto d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úde neplat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láska nášho Pán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perly cenu m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íži sa nás sam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Sudcom ujím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ú prázdne veľké či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krása zvučných slov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lásky sú len hli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ovu ozven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Božia milosť več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 tak sa poní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k bránam nekonečn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prach náš povýš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iv divov v tom je stá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Láska v útrapá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sme ňou pohŕd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niesla na ruká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nám zjav, Láska svä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omôž pochop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ú pravdu tvojho sve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mrieť má, kto chce ži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5T14:03:45Z</dcterms:modified>
  <cp:revision>22</cp:revision>
  <dc:subject/>
  <dc:title>Je veľký náš Pán, on slávy je Kráľ Nech do všetkých strán  spev vrúcnych znie chvál.</dc:title>
</cp:coreProperties>
</file>